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BCF-B156-411F-969C-DD2BC16E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4AC-1A70-470A-8268-503D2436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69E-2480-484F-A8C6-4D03D784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0F8-87AB-430F-B799-4270E178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C82-0DEE-471E-A986-A97A233B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B6D-5114-485E-9A6D-8222FB2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016-D742-4CCD-8AE2-441969DE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841-734A-4087-A210-B1CE0A64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A90-8549-4B68-9652-DCD744C7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307-D521-4D46-8811-54466E88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16A-5100-49C2-9569-976FE9C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37D-7D54-45FC-B86A-2715A42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39752-32F8-4099-99A7-331665D74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92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11240" y="-914400"/>
            <a:ext cx="12474720" cy="881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95400" y="-1000080"/>
            <a:ext cx="12368520" cy="87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08:40:11Z</dcterms:created>
  <dc:creator>Andrea Todd</dc:creator>
  <dc:description/>
  <dc:language>en-US</dc:language>
  <cp:lastModifiedBy>Beth McPherson</cp:lastModifiedBy>
  <dcterms:modified xsi:type="dcterms:W3CDTF">2021-10-15T09:56:22Z</dcterms:modified>
  <cp:revision>26</cp:revision>
  <dc:subject/>
  <dc:title>PowerPoint Presentation</dc:title>
</cp:coreProperties>
</file>