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DCF-3F94-4391-99C6-5E3AC2F6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94B-F8E4-4622-9E7C-F6D89D30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182-84D9-4460-8E57-5C4929ED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495-37FA-46A4-9334-7776B508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B46-9A9F-4A8F-AA9E-9A0AED52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454-34B5-4759-9782-96F7DFE9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EDB-E2E7-413F-892E-80B47EDA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CAB-CF34-4A1B-94AD-FC4DC03D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95E-718B-4618-8918-8997763E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3E4-5BB2-4C7E-A846-AA9B653B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242-7C46-4295-AC3D-860548F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7F9-ABF8-48BF-9170-0AF8150F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8CA30-2AC5-4470-B284-587B3F5C6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92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11240" y="-914400"/>
            <a:ext cx="12474720" cy="881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95400" y="-1000080"/>
            <a:ext cx="12368520" cy="87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08:40:11Z</dcterms:created>
  <dc:creator>Andrea Todd</dc:creator>
  <dc:description/>
  <dc:language>en-US</dc:language>
  <cp:lastModifiedBy>Beth McPherson</cp:lastModifiedBy>
  <dcterms:modified xsi:type="dcterms:W3CDTF">2021-10-15T09:56:22Z</dcterms:modified>
  <cp:revision>26</cp:revision>
  <dc:subject/>
  <dc:title>PowerPoint Presentation</dc:title>
</cp:coreProperties>
</file>